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58C-9F87-4FEB-9D66-28B22FDA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F64-4698-4131-B27E-F5C69C5F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4D9-C477-41C5-BF01-E4BB274D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FAD-D3E0-4C95-B413-2FA1B907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659-7B0D-40FE-9D73-FC940B86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11A-5A60-4014-8015-CD736AC3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A08-5E96-4C98-820F-1FE76F8C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B04F-E086-4311-B5C4-24057477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531-A2D5-4F7A-85C7-7BA73029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FAD-9DFE-4325-A858-8BFDBB1B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E5F-39FC-4571-8918-1444A8B5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453-E7AC-46A3-B931-49F8007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8C19-A184-46B2-9F40-B141B2CB29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r Photograp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arole Satyamur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195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evai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rbitrary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ing over, taking ch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ndom, without reason or ju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30T00:22:50Z</dcterms:modified>
  <cp:revision>28</cp:revision>
  <dc:subject/>
  <dc:title>La Belle Dame Sans Merci</dc:title>
</cp:coreProperties>
</file>